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Click to edit the outline text format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Second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Third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Fourth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Fifth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Sixth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Seventh Outline Level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Taryn Gilles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Ravie"/>
              </a:rPr>
              <a:t>Do Boys See Different Optical Allusions Then Girls </a:t>
            </a:r>
            <a:endParaRPr b="0" lang="en-US" sz="40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By Taryn Gillespie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Boys saw more of normal illusions. On most of the boys answers their numbers were even like 50% on both. I think that the boys saw the illusions more evenly then the girls!  My hypothesis was incorrect. 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Work Cited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Efirig, David E. "optical illutions." </a:t>
            </a:r>
            <a:r>
              <a:rPr b="0" i="1" lang="en-US" sz="3200" spc="-1" strike="noStrike">
                <a:solidFill>
                  <a:srgbClr val="ff0066"/>
                </a:solidFill>
                <a:latin typeface="Ravie"/>
              </a:rPr>
              <a:t>world book online</a:t>
            </a: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. Web. 12 Jan. 2011. &lt;http://www.worldbookonline.com/pl/referencecenter/article?id=ar404180&amp;st=illusions&gt;.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Problem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What effect does gender have on how optical illusions are seen?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Hypothesis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I predict that they will see different things in the illusions because boys brains aren't fully developed until they are about 30!   Girls brain develop in there teens!  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Materials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Test subjects-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Paper for subjects to write answers on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Pencils for the subjects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Smart board to show the slideshow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Computer to make the slideshow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Class room to do the experiment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Procedure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Make slideshow </a:t>
            </a:r>
            <a:r>
              <a:rPr b="0" lang="en-US" sz="2400" spc="-1" strike="noStrike">
                <a:solidFill>
                  <a:srgbClr val="ff0066"/>
                </a:solidFill>
                <a:latin typeface="Ravie"/>
              </a:rPr>
              <a:t>(Optical Illusions) </a:t>
            </a:r>
            <a:endParaRPr b="0" lang="en-US" sz="24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4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Get room ready </a:t>
            </a:r>
            <a:r>
              <a:rPr b="0" lang="en-US" sz="2000" spc="-1" strike="noStrike">
                <a:solidFill>
                  <a:srgbClr val="ff0066"/>
                </a:solidFill>
                <a:latin typeface="Ravie"/>
              </a:rPr>
              <a:t>(including smart board) </a:t>
            </a:r>
            <a:endParaRPr b="0" lang="en-US" sz="20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4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Find test subjects </a:t>
            </a:r>
            <a:r>
              <a:rPr b="0" lang="en-US" sz="2000" spc="-1" strike="noStrike">
                <a:solidFill>
                  <a:srgbClr val="ff0066"/>
                </a:solidFill>
                <a:latin typeface="Ravie"/>
              </a:rPr>
              <a:t>(8</a:t>
            </a:r>
            <a:r>
              <a:rPr b="0" lang="en-US" sz="2000" spc="-1" strike="noStrike" baseline="30000">
                <a:solidFill>
                  <a:srgbClr val="ff0066"/>
                </a:solidFill>
                <a:latin typeface="Ravie"/>
              </a:rPr>
              <a:t>th</a:t>
            </a:r>
            <a:r>
              <a:rPr b="0" lang="en-US" sz="2000" spc="-1" strike="noStrike">
                <a:solidFill>
                  <a:srgbClr val="ff0066"/>
                </a:solidFill>
                <a:latin typeface="Ravie"/>
              </a:rPr>
              <a:t> Grade Class)</a:t>
            </a:r>
            <a:endParaRPr b="0" lang="en-US" sz="2000" spc="-1" strike="noStrike">
              <a:solidFill>
                <a:srgbClr val="ff0066"/>
              </a:solidFill>
              <a:latin typeface="Ravie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Ravie"/>
              </a:rPr>
              <a:t>17 Girls</a:t>
            </a:r>
            <a:endParaRPr b="0" lang="en-US" sz="2400" spc="-1" strike="noStrike">
              <a:solidFill>
                <a:srgbClr val="ff0066"/>
              </a:solidFill>
              <a:latin typeface="Ravie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Ravie"/>
              </a:rPr>
              <a:t>22 Boys</a:t>
            </a:r>
            <a:endParaRPr b="0" lang="en-US" sz="24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Sit them down and explain the testing 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Record their answers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Ravie"/>
              </a:rPr>
              <a:t>Make Table of Results</a:t>
            </a:r>
            <a:endParaRPr b="0" lang="en-US" sz="28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Causes of error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People could look at it too long and not right down the first thing they see!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Ravie"/>
              </a:rPr>
              <a:t>Results</a:t>
            </a:r>
            <a:endParaRPr b="0" lang="en-US" sz="4400" spc="-1" strike="noStrike">
              <a:solidFill>
                <a:srgbClr val="0000ff"/>
              </a:solidFill>
              <a:latin typeface="Ravi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Girls Table &amp; Boys Table on Next two slides. </a:t>
            </a:r>
            <a:endParaRPr b="0" lang="en-US" sz="3200" spc="-1" strike="noStrike">
              <a:solidFill>
                <a:srgbClr val="ff0066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" y="0"/>
          <a:ext cx="8610120" cy="6400440"/>
        </p:xfrm>
        <a:graphic>
          <a:graphicData uri="http://schemas.openxmlformats.org/drawingml/2006/table">
            <a:tbl>
              <a:tblPr/>
              <a:tblGrid>
                <a:gridCol w="1215360"/>
                <a:gridCol w="1431360"/>
                <a:gridCol w="5963400"/>
              </a:tblGrid>
              <a:tr h="72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GIRL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enter + Sign?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The Objects Seen in the Picture. 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handi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ld people, cup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indse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4 THINGS SEEN: guys a woman, light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Brecky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4 THINGS SEEN:</a:t>
                      </a:r>
                      <a:r>
                        <a:rPr b="0" lang="en-US" sz="8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2 old people, person in girls face, I person guitar</a:t>
                      </a: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Brity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THINGS SEEN old people 2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Kandra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THINGS SEEN old people 2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Haylie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mexicans, a man leaning on a wall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ara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mexicans, old people, woman in doorway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Rachel W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THING SEEN mexican woman 1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Jaynssa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light, 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Rachel V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6 THINGS SEEN</a:t>
                      </a:r>
                      <a:r>
                        <a:rPr b="0" lang="en-US" sz="8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 old people, mexicans, woman in doorway, cup 6</a:t>
                      </a:r>
                      <a:endParaRPr b="0" lang="en-US" sz="8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arah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6 THINGS SEEN </a:t>
                      </a:r>
                      <a:r>
                        <a:rPr b="0" lang="en-US" sz="6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old people, mexicans, vase, a person dancing at the wall 6</a:t>
                      </a:r>
                      <a:endParaRPr b="0" lang="en-US" sz="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helse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THING SEEN a vase 1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Destin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THINGS SEEN old people, mexians 4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Julia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vase, mexicans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ndi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6 THINGS SEEN old people, cup, mexicans, girl in ear 6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Kayli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THINGS SEEN old people, mexicans 4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Kendrah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mexicans, and girl in ear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04920" y="228600"/>
          <a:ext cx="8533800" cy="5866920"/>
        </p:xfrm>
        <a:graphic>
          <a:graphicData uri="http://schemas.openxmlformats.org/drawingml/2006/table">
            <a:tbl>
              <a:tblPr/>
              <a:tblGrid>
                <a:gridCol w="1234800"/>
                <a:gridCol w="1513440"/>
                <a:gridCol w="5785560"/>
              </a:tblGrid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Dyla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mexicans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Zane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THINGS SEEN old people 2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Dalla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five faces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Jayde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THINGS SEEN old people 2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uc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light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lex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THINGS SEEN old people, mexicans 4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Bobby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vase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Jake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lamp 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hase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THINGS SEEN  old people, mexican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Gu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mexicans, lamp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cott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6 THINGS SEEN 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Michah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light, cup, statue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Kod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e people, glass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amero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THING SEEN wine glass 1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aleb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THING SEEN mexican man 1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  <a:tr h="26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Bria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mexicans, lady in door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ndrew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mexicans, cup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Ia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d people, cup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Trac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mexicans, girl in door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Jorda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THINGS SEEN ole people, mexican man 3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Henr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THINGS SEEN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ody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THINGS SEEN old people, mexicans, girl in door 5</a:t>
                      </a:r>
                      <a:endParaRPr b="0" lang="en-US" sz="10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20:12:20Z</dcterms:created>
  <dc:creator>USD376</dc:creator>
  <dc:description/>
  <dc:language>en-US</dc:language>
  <cp:lastModifiedBy>USD376</cp:lastModifiedBy>
  <dcterms:modified xsi:type="dcterms:W3CDTF">2011-01-26T17:01:16Z</dcterms:modified>
  <cp:revision>10</cp:revision>
  <dc:subject/>
  <dc:title>Do Boys See Different Optical Allusions Then Girls </dc:title>
</cp:coreProperties>
</file>